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0.wmf" ContentType="image/x-wmf"/>
  <Override PartName="/ppt/media/image8.gif" ContentType="image/gif"/>
  <Override PartName="/ppt/media/image15.wmf" ContentType="image/x-wmf"/>
  <Override PartName="/ppt/media/image14.wmf" ContentType="image/x-wmf"/>
  <Override PartName="/ppt/media/image6.gif" ContentType="image/gif"/>
  <Override PartName="/ppt/media/image9.wmf" ContentType="image/x-wmf"/>
  <Override PartName="/ppt/media/image1.wmf" ContentType="image/x-wmf"/>
  <Override PartName="/ppt/media/whoosh.wav" ContentType="audio/x-wav"/>
  <Override PartName="/ppt/media/image13.wmf" ContentType="image/x-wmf"/>
  <Override PartName="/ppt/media/image5.gif" ContentType="image/gif"/>
  <Override PartName="/ppt/media/image2.wmf" ContentType="image/x-wmf"/>
  <Override PartName="/ppt/media/image3.wmf" ContentType="image/x-wmf"/>
  <Override PartName="/ppt/media/image4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CA37-7FEE-44CB-A0D1-3C797935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4C49-A000-4754-B42E-E11A949B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A23E-E8A3-4A89-A92D-16D9E827F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B428-5366-47A2-8F43-8AD0CC369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CEC4-30B9-4233-8B28-40D11A2B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4A57-E60E-4E44-9180-5AB0D09A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715B-E190-4A2B-88F4-24297C39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7F97-E75B-4EE0-BDEE-A231340F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E552-FA61-42A0-9A68-8FBBD2A3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FE78-3D4F-4D4E-B0C2-17EC2B33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33EE-503C-4A3A-8606-8E4456FF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5464-01D6-4727-81C0-6DB138AB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AF4F-D18E-4AA4-A182-5771266FF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09900"/>
                </a:solidFill>
                <a:uFillTx/>
                <a:latin typeface="Comic Sans MS"/>
              </a:rPr>
              <a:t>El</a:t>
            </a:r>
            <a:r>
              <a:rPr b="1" lang="en-US" sz="5400" spc="-1" strike="noStrike" u="sng">
                <a:solidFill>
                  <a:srgbClr val="009900"/>
                </a:solidFill>
                <a:uFillTx/>
                <a:latin typeface="Comic Sans MS"/>
              </a:rPr>
              <a:t> </a:t>
            </a:r>
            <a:r>
              <a:rPr b="1" lang="en-US" sz="7200" spc="-1" strike="noStrike" u="sng">
                <a:solidFill>
                  <a:srgbClr val="009900"/>
                </a:solidFill>
                <a:uFillTx/>
                <a:latin typeface="Comic Sans MS"/>
              </a:rPr>
              <a:t>Pretérit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Los Verbos Regular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Comic Sans MS"/>
              </a:rPr>
              <a:t>Los Verbos con Cambi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Los Verbos Irregular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21337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400800" y="4724280"/>
            <a:ext cx="2122560" cy="1860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4724280"/>
            <a:ext cx="1327320" cy="18176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99"/>
                </a:solidFill>
                <a:latin typeface="Comic Sans MS"/>
              </a:rPr>
              <a:t>Una Práctic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8600" y="1447920"/>
          <a:ext cx="1442880" cy="15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144288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7238880" y="2590920"/>
          <a:ext cx="1319400" cy="13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8880" y="2590920"/>
                    <a:ext cx="13194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304920" y="4759200"/>
            <a:ext cx="1836720" cy="1565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7010280" y="5257800"/>
            <a:ext cx="1836720" cy="1324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37720" y="1549440"/>
            <a:ext cx="51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 mesera _____(servir) la ce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240" y="3048120"/>
            <a:ext cx="578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orge___________(despedirse) de 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po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36520" y="4749840"/>
            <a:ext cx="530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ón _____(dormir) en el par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1640" y="6262560"/>
            <a:ext cx="79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fonso y su primo___________(divertirse) much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32600" y="1600200"/>
            <a:ext cx="9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sirvi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5680" y="3048120"/>
            <a:ext cx="15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se despidi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9400" y="480060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durmi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7400" y="624852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se divirti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0099"/>
                </a:solidFill>
                <a:latin typeface="Comic Sans MS"/>
              </a:rPr>
              <a:t>Más Práctic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240" y="1371600"/>
            <a:ext cx="44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Escribe la forma del pretér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118800" y="1752480"/>
            <a:ext cx="913428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Yo __________(cruzar) la calle para ir al tea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Todos los estudiantes _________(repeti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los verb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3.  Los atletas __________(jugar) en el ca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4.  El gato __________(dormir) lejos del per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5.  Mi papá __________(leer) la revista en la sa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6.  Tú _________(cerrar) la puerta antes de sal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7.  Ustedes __________(sentarse) en la sil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8.  Mis hermanos __________(oír) las noticias ay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9.  Yo _________(practicar) el tenis anoc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10. Clara _________(divertirse) con sus pri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55480" y="17668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cruc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7960" y="213372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repitie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11880" y="3048120"/>
            <a:ext cx="14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juga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64680" y="3429000"/>
            <a:ext cx="14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durm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29280" y="3886200"/>
            <a:ext cx="8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ley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60360" y="4343400"/>
            <a:ext cx="15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cerra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92760" y="4724280"/>
            <a:ext cx="21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se senta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62400" y="518148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oye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28600" y="5562720"/>
            <a:ext cx="17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practiqu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84160" y="6033960"/>
            <a:ext cx="180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se divirt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Comic Sans MS"/>
              </a:rPr>
              <a:t>Cambia los verbos al pret</a:t>
            </a:r>
            <a:r>
              <a:rPr b="0" lang="en-US" sz="40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é</a:t>
            </a:r>
            <a:r>
              <a:rPr b="0" lang="en-US" sz="4000" spc="-1" strike="noStrike">
                <a:solidFill>
                  <a:srgbClr val="990099"/>
                </a:solidFill>
                <a:latin typeface="Comic Sans MS"/>
              </a:rPr>
              <a:t>ri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6520" y="1646280"/>
            <a:ext cx="2306880" cy="56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ienz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ue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fi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e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vi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divie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95360" y="1658880"/>
            <a:ext cx="2672640" cy="56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o</a:t>
            </a:r>
            <a:r>
              <a:rPr b="1" lang="en-US" sz="24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le</a:t>
            </a:r>
            <a:r>
              <a:rPr b="1" lang="el-GR" sz="2400" spc="-1" strike="noStrike">
                <a:solidFill>
                  <a:srgbClr val="990099"/>
                </a:solidFill>
                <a:latin typeface="Comic Sans MS"/>
              </a:rPr>
              <a:t>ί</a:t>
            </a: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comenza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jug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ca</a:t>
            </a:r>
            <a:r>
              <a:rPr b="1" lang="el-GR" sz="2400" spc="-1" strike="noStrike">
                <a:solidFill>
                  <a:srgbClr val="990099"/>
                </a:solidFill>
                <a:latin typeface="Comic Sans MS"/>
              </a:rPr>
              <a:t>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pidi</a:t>
            </a:r>
            <a:r>
              <a:rPr b="1" lang="en-US" sz="24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prefer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cont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durmi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se visti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sirvi</a:t>
            </a:r>
            <a:r>
              <a:rPr b="1" lang="en-US" sz="24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repet</a:t>
            </a:r>
            <a:r>
              <a:rPr b="1" lang="en-US" sz="24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se divirti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781680" y="5029200"/>
            <a:ext cx="1925640" cy="1603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334120" y="2209680"/>
            <a:ext cx="236196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Los Verbos Regular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6096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ndy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ndy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-é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-amos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-aste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-ast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-ó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-a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46200" y="4564080"/>
            <a:ext cx="24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2760" y="3965400"/>
            <a:ext cx="7089120" cy="173988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Tomé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Toma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Tomaste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Tomaste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Tomó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Tomar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45560" y="1397160"/>
            <a:ext cx="211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Comic Sans MS"/>
              </a:rPr>
              <a:t>-AR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29400" y="1600200"/>
            <a:ext cx="1824120" cy="1800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77724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Comic Sans MS"/>
              </a:rPr>
              <a:t>Los Vebos </a:t>
            </a:r>
            <a:r>
              <a:rPr b="1" lang="en-US" sz="5400" spc="-1" strike="noStrike" u="sng">
                <a:solidFill>
                  <a:srgbClr val="ffff00"/>
                </a:solidFill>
                <a:uFillTx/>
                <a:latin typeface="Comic Sans MS"/>
              </a:rPr>
              <a:t>Regular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3960" y="1292400"/>
            <a:ext cx="24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Comic Sans MS"/>
              </a:rPr>
              <a:t>-ER  -IR Ver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6096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ndy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ndy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-í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-imos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-iste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-ist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-ió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-ie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97120" y="3965400"/>
            <a:ext cx="6767280" cy="173988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Abrí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Abri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Abriste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Abriste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Abrió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</a:rPr>
              <a:t>Abrier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0" y="1600200"/>
            <a:ext cx="1450800" cy="1836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84360" y="42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133200"/>
            <a:ext cx="4673520" cy="100836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99"/>
                </a:solidFill>
                <a:latin typeface="Comic Sans MS"/>
              </a:rPr>
              <a:t>Una Práctic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1360" y="1397160"/>
            <a:ext cx="423288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Beber (yo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Compartir (ell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Enseñar (nosotr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Lavarse (t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Vivir (t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Salir (nosotr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Mandar (y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Vender (Uds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Correr (ell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Trabajar (Ud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28320" y="141768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eb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2200" y="1905120"/>
            <a:ext cx="17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mpart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1360" y="2438280"/>
            <a:ext cx="18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nseñ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98320" y="297180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 lav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69480" y="342900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Viv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56320" y="396252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ali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70520" y="441972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and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6880" y="487692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Vendi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8200" y="541008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rri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92320" y="586728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745240" y="2697120"/>
            <a:ext cx="2560680" cy="2560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99ccff"/>
                </a:solidFill>
                <a:uFillTx/>
                <a:latin typeface="Comic Sans MS"/>
              </a:rPr>
              <a:t>Spelling Change Verbs</a:t>
            </a:r>
            <a:br>
              <a:rPr sz="3200"/>
            </a:br>
            <a:r>
              <a:rPr b="1" lang="en-US" sz="3200" spc="-1" strike="noStrike">
                <a:solidFill>
                  <a:srgbClr val="99ccff"/>
                </a:solidFill>
                <a:latin typeface="Comic Sans MS"/>
              </a:rPr>
              <a:t>Verbs that end in –car -gar -z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Comic Sans MS"/>
              </a:rPr>
              <a:t>Spelling Change in the </a:t>
            </a:r>
            <a:r>
              <a:rPr b="1" lang="en-US" sz="3200" spc="-1" strike="noStrike" u="sng">
                <a:solidFill>
                  <a:srgbClr val="66ff66"/>
                </a:solidFill>
                <a:uFillTx/>
                <a:latin typeface="Comic Sans MS"/>
              </a:rPr>
              <a:t>yo</a:t>
            </a:r>
            <a:r>
              <a:rPr b="1" lang="en-US" sz="2800" spc="-1" strike="noStrike">
                <a:solidFill>
                  <a:srgbClr val="66ff66"/>
                </a:solidFill>
                <a:latin typeface="Comic Sans MS"/>
              </a:rPr>
              <a:t> form only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35053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43434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495288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-11160" y="4979880"/>
            <a:ext cx="6410880" cy="1739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ff"/>
                </a:solidFill>
                <a:latin typeface="Andy"/>
              </a:rPr>
              <a:t>Yo bus</a:t>
            </a:r>
            <a:r>
              <a:rPr b="1" lang="en-US" sz="3600" spc="-1" strike="noStrike">
                <a:solidFill>
                  <a:srgbClr val="ffff00"/>
                </a:solidFill>
                <a:latin typeface="Andy"/>
              </a:rPr>
              <a:t>qué</a:t>
            </a:r>
            <a:r>
              <a:rPr b="1" lang="en-US" sz="3600" spc="-1" strike="noStrike">
                <a:solidFill>
                  <a:srgbClr val="99ccff"/>
                </a:solidFill>
                <a:latin typeface="Andy"/>
              </a:rPr>
              <a:t>	</a:t>
            </a:r>
            <a:r>
              <a:rPr b="1" lang="en-US" sz="3600" spc="-1" strike="noStrike">
                <a:solidFill>
                  <a:srgbClr val="99ccff"/>
                </a:solidFill>
                <a:latin typeface="Andy"/>
              </a:rPr>
              <a:t>   Yo empe</a:t>
            </a:r>
            <a:r>
              <a:rPr b="1" lang="en-US" sz="3600" spc="-1" strike="noStrike">
                <a:solidFill>
                  <a:srgbClr val="ffff00"/>
                </a:solidFill>
                <a:latin typeface="Andy"/>
              </a:rPr>
              <a:t>c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ff"/>
                </a:solidFill>
                <a:latin typeface="Andy"/>
              </a:rPr>
              <a:t> </a:t>
            </a:r>
            <a:r>
              <a:rPr b="1" lang="en-US" sz="3600" spc="-1" strike="noStrike">
                <a:solidFill>
                  <a:srgbClr val="99ccff"/>
                </a:solidFill>
                <a:latin typeface="Andy"/>
              </a:rPr>
              <a:t>Yo to</a:t>
            </a:r>
            <a:r>
              <a:rPr b="1" lang="en-US" sz="3600" spc="-1" strike="noStrike">
                <a:solidFill>
                  <a:srgbClr val="ffff00"/>
                </a:solidFill>
                <a:latin typeface="Andy"/>
              </a:rPr>
              <a:t>qué</a:t>
            </a:r>
            <a:r>
              <a:rPr b="1" lang="en-US" sz="3600" spc="-1" strike="noStrike">
                <a:solidFill>
                  <a:srgbClr val="99ccff"/>
                </a:solidFill>
                <a:latin typeface="Andy"/>
              </a:rPr>
              <a:t>	</a:t>
            </a:r>
            <a:r>
              <a:rPr b="1" lang="en-US" sz="3600" spc="-1" strike="noStrike">
                <a:solidFill>
                  <a:srgbClr val="99ccff"/>
                </a:solidFill>
                <a:latin typeface="Andy"/>
              </a:rPr>
              <a:t>    Yo almor</a:t>
            </a:r>
            <a:r>
              <a:rPr b="1" lang="en-US" sz="3600" spc="-1" strike="noStrike">
                <a:solidFill>
                  <a:srgbClr val="ffff00"/>
                </a:solidFill>
                <a:latin typeface="Andy"/>
              </a:rPr>
              <a:t>c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ff"/>
                </a:solidFill>
                <a:latin typeface="Andy"/>
              </a:rPr>
              <a:t>  </a:t>
            </a:r>
            <a:r>
              <a:rPr b="1" lang="en-US" sz="3600" spc="-1" strike="noStrike">
                <a:solidFill>
                  <a:srgbClr val="99ccff"/>
                </a:solidFill>
                <a:latin typeface="Andy"/>
              </a:rPr>
              <a:t>Yo lle</a:t>
            </a:r>
            <a:r>
              <a:rPr b="1" lang="en-US" sz="3600" spc="-1" strike="noStrike">
                <a:solidFill>
                  <a:srgbClr val="ffff00"/>
                </a:solidFill>
                <a:latin typeface="Andy"/>
              </a:rPr>
              <a:t>gué</a:t>
            </a:r>
            <a:r>
              <a:rPr b="1" lang="en-US" sz="3600" spc="-1" strike="noStrike">
                <a:solidFill>
                  <a:srgbClr val="99ccff"/>
                </a:solidFill>
                <a:latin typeface="Andy"/>
              </a:rPr>
              <a:t>	</a:t>
            </a:r>
            <a:r>
              <a:rPr b="1" lang="en-US" sz="3600" spc="-1" strike="noStrike">
                <a:solidFill>
                  <a:srgbClr val="99ccff"/>
                </a:solidFill>
                <a:latin typeface="Andy"/>
              </a:rPr>
              <a:t>     Yo practi</a:t>
            </a:r>
            <a:r>
              <a:rPr b="1" lang="en-US" sz="3600" spc="-1" strike="noStrike">
                <a:solidFill>
                  <a:srgbClr val="ffff00"/>
                </a:solidFill>
                <a:latin typeface="Andy"/>
              </a:rPr>
              <a:t>qu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13400" y="2671920"/>
            <a:ext cx="2680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c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      -q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g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      -g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z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      -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3048120"/>
            <a:ext cx="1295280" cy="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4267080"/>
            <a:ext cx="1295280" cy="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3733920"/>
            <a:ext cx="1295280" cy="0"/>
          </a:xfrm>
          <a:prstGeom prst="line">
            <a:avLst/>
          </a:prstGeom>
          <a:ln w="93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451560" y="2851200"/>
            <a:ext cx="2006640" cy="2025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99ccff"/>
                </a:solidFill>
                <a:uFillTx/>
                <a:latin typeface="Comic Sans MS"/>
              </a:rPr>
              <a:t>Spelling Change Verbs</a:t>
            </a:r>
            <a:br>
              <a:rPr sz="3200"/>
            </a:br>
            <a:r>
              <a:rPr b="1" lang="en-US" sz="3200" spc="-1" strike="noStrike">
                <a:solidFill>
                  <a:srgbClr val="99ccff"/>
                </a:solidFill>
                <a:latin typeface="Comic Sans MS"/>
              </a:rPr>
              <a:t>Karate Chop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5480" y="1749600"/>
            <a:ext cx="756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Y    in th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él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ello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orms only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67880" y="2590920"/>
            <a:ext cx="3937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Leí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Leí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Leíste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Leíste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Le</a:t>
            </a:r>
            <a:r>
              <a:rPr b="0" lang="en-US" sz="4000" spc="-1" strike="noStrike" u="sng">
                <a:solidFill>
                  <a:srgbClr val="00ff00"/>
                </a:solidFill>
                <a:uFillTx/>
                <a:latin typeface="Comic Sans MS"/>
              </a:rPr>
              <a:t>y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ó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Le</a:t>
            </a:r>
            <a:r>
              <a:rPr b="0" lang="en-US" sz="4000" spc="-1" strike="noStrike" u="sng">
                <a:solidFill>
                  <a:srgbClr val="00ff00"/>
                </a:solidFill>
                <a:uFillTx/>
                <a:latin typeface="Comic Sans MS"/>
              </a:rPr>
              <a:t>y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er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5080" y="4800600"/>
            <a:ext cx="707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ll forms are accented except the ellos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981080"/>
            <a:ext cx="99036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7640" y="5483160"/>
            <a:ext cx="751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Oí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  Oímo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Caí        Caí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Oíste  Oístei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Caíste   Caíste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O</a:t>
            </a:r>
            <a:r>
              <a:rPr b="0" lang="en-US" sz="2800" spc="-1" strike="noStrike" u="sng">
                <a:solidFill>
                  <a:srgbClr val="ff0066"/>
                </a:solidFill>
                <a:uFillTx/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ó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  O</a:t>
            </a:r>
            <a:r>
              <a:rPr b="0" lang="en-US" sz="2800" spc="-1" strike="noStrike" u="sng">
                <a:solidFill>
                  <a:srgbClr val="ff0066"/>
                </a:solidFill>
                <a:uFillTx/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er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Ca</a:t>
            </a:r>
            <a:r>
              <a:rPr b="0" lang="en-US" sz="2800" spc="-1" strike="noStrike" u="sng">
                <a:solidFill>
                  <a:srgbClr val="ff00ff"/>
                </a:solidFill>
                <a:uFillTx/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ó      Ca</a:t>
            </a:r>
            <a:r>
              <a:rPr b="0" lang="en-US" sz="2800" spc="-1" strike="noStrike" u="sng">
                <a:solidFill>
                  <a:srgbClr val="ff00ff"/>
                </a:solidFill>
                <a:uFillTx/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e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143352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ff00"/>
                </a:solidFill>
                <a:uFillTx/>
                <a:latin typeface="Andy"/>
              </a:rPr>
              <a:t>Completa con el pretérito del verb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Comic Sans MS"/>
              </a:rPr>
              <a:t>Ayer yo (tocar) __________ el pi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Comic Sans MS"/>
              </a:rPr>
              <a:t>Yo (almorzar) _________ en Taco B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Yo(apagar) _________ las luces de mi cuar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ú (oír) ________ las noticias ay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Yo (jugar) ______ los videojueg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Uds. (leer) ______ la novela para la clase de inglé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543800" y="1295280"/>
            <a:ext cx="1295280" cy="1236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211640" y="1636560"/>
            <a:ext cx="13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Comic Sans MS"/>
              </a:rPr>
              <a:t>toqu</a:t>
            </a:r>
            <a:r>
              <a:rPr b="0" lang="en-US" sz="3200" spc="-1" strike="noStrike">
                <a:solidFill>
                  <a:srgbClr val="9966ff"/>
                </a:solidFill>
                <a:latin typeface="Comic Sans MS"/>
                <a:ea typeface="Times New Roman"/>
              </a:rPr>
              <a:t>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20520" y="2620800"/>
            <a:ext cx="173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Comic Sans MS"/>
              </a:rPr>
              <a:t>almorc</a:t>
            </a:r>
            <a:r>
              <a:rPr b="0" lang="en-US" sz="3200" spc="-1" strike="noStrike">
                <a:solidFill>
                  <a:srgbClr val="9966ff"/>
                </a:solidFill>
                <a:latin typeface="Comic Sans MS"/>
                <a:ea typeface="Times New Roman"/>
              </a:rPr>
              <a:t>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440" y="361152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Comic Sans MS"/>
              </a:rPr>
              <a:t>apagu</a:t>
            </a:r>
            <a:r>
              <a:rPr b="0" lang="en-US" sz="3200" spc="-1" strike="noStrike">
                <a:solidFill>
                  <a:srgbClr val="9966ff"/>
                </a:solidFill>
                <a:latin typeface="Comic Sans MS"/>
                <a:ea typeface="Times New Roman"/>
              </a:rPr>
              <a:t>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0040" y="4602240"/>
            <a:ext cx="113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Comic Sans MS"/>
              </a:rPr>
              <a:t>o</a:t>
            </a:r>
            <a:r>
              <a:rPr b="0" lang="el-GR" sz="3200" spc="-1" strike="noStrike">
                <a:solidFill>
                  <a:srgbClr val="9966ff"/>
                </a:solidFill>
                <a:latin typeface="Comic Sans MS"/>
              </a:rPr>
              <a:t>ί</a:t>
            </a:r>
            <a:r>
              <a:rPr b="0" lang="en-US" sz="3200" spc="-1" strike="noStrike">
                <a:solidFill>
                  <a:srgbClr val="9966ff"/>
                </a:solidFill>
                <a:latin typeface="Comic Sans MS"/>
              </a:rPr>
              <a:t>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41560" y="5111640"/>
            <a:ext cx="12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Comic Sans MS"/>
              </a:rPr>
              <a:t>jugu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72440" y="574524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Comic Sans MS"/>
              </a:rPr>
              <a:t>leye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Comic Sans MS"/>
              </a:rPr>
              <a:t>Cambia al pretérit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2880" y="114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4360" y="1494000"/>
            <a:ext cx="2543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plan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ven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prac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comparti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compre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g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investi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sa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empi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apag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to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o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32120" y="1523880"/>
            <a:ext cx="2867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planch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vend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practiqu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le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comparti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comprendi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gan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investiga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sac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empez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apag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toc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oí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95880" y="2362320"/>
            <a:ext cx="274320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99"/>
                </a:solidFill>
                <a:latin typeface="Comic Sans MS"/>
              </a:rPr>
              <a:t>Stem Changing Verb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74880" y="1600200"/>
            <a:ext cx="73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Onl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–i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will have a stem change in the preter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96480" y="2387520"/>
            <a:ext cx="4536360" cy="2043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99"/>
                </a:solidFill>
                <a:latin typeface="Comic Sans MS"/>
              </a:rPr>
              <a:t>Ped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Pedí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Pedi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Pediste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Pedist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99"/>
                </a:solidFill>
                <a:latin typeface="Comic Sans MS"/>
              </a:rPr>
              <a:t>Pidió</a:t>
            </a:r>
            <a:r>
              <a:rPr b="1" lang="en-US" sz="32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i="1" lang="en-US" sz="3200" spc="-1" strike="noStrike">
                <a:solidFill>
                  <a:srgbClr val="990099"/>
                </a:solidFill>
                <a:latin typeface="Comic Sans MS"/>
              </a:rPr>
              <a:t>Pidie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3960" y="2438280"/>
            <a:ext cx="4079160" cy="2043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99"/>
                </a:solidFill>
                <a:latin typeface="Comic Sans MS"/>
              </a:rPr>
              <a:t>Dorm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Dormí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Dormi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Dormiste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Dormist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99"/>
                </a:solidFill>
                <a:latin typeface="Comic Sans MS"/>
              </a:rPr>
              <a:t>Durmió</a:t>
            </a:r>
            <a:r>
              <a:rPr b="1" lang="en-US" sz="32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1" i="1" lang="en-US" sz="3200" spc="-1" strike="noStrike">
                <a:solidFill>
                  <a:srgbClr val="990099"/>
                </a:solidFill>
                <a:latin typeface="Comic Sans MS"/>
              </a:rPr>
              <a:t>Durmie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20494800">
            <a:off x="146520" y="4777200"/>
            <a:ext cx="1212480" cy="64260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354200">
            <a:off x="6996240" y="4800960"/>
            <a:ext cx="1377000" cy="642600"/>
          </a:xfrm>
          <a:prstGeom prst="rect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33520" y="5028840"/>
            <a:ext cx="533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4689360"/>
            <a:ext cx="4623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changes in él and ellos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541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45840" y="5477040"/>
            <a:ext cx="5467680" cy="947160"/>
          </a:xfrm>
          <a:prstGeom prst="rect">
            <a:avLst/>
          </a:prstGeom>
          <a:solidFill>
            <a:srgbClr val="000000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Pref</a:t>
            </a:r>
            <a:r>
              <a:rPr b="1" lang="en-US" sz="2800" spc="-1" strike="noStrike" u="sng">
                <a:solidFill>
                  <a:srgbClr val="990099"/>
                </a:solidFill>
                <a:uFillTx/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rió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M</a:t>
            </a:r>
            <a:r>
              <a:rPr b="1" lang="en-US" sz="2800" spc="-1" strike="noStrike" u="sng">
                <a:solidFill>
                  <a:srgbClr val="990099"/>
                </a:solidFill>
                <a:uFillTx/>
                <a:latin typeface="Times New Roman"/>
              </a:rPr>
              <a:t>u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rieron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Se Div</a:t>
            </a:r>
            <a:r>
              <a:rPr b="1" lang="en-US" sz="2800" spc="-1" strike="noStrike" u="sng">
                <a:solidFill>
                  <a:srgbClr val="990099"/>
                </a:solidFill>
                <a:uFillTx/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rt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Rep</a:t>
            </a:r>
            <a:r>
              <a:rPr b="1" lang="en-US" sz="2800" spc="-1" strike="noStrike" u="sng">
                <a:solidFill>
                  <a:srgbClr val="990099"/>
                </a:solidFill>
                <a:uFillTx/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tieron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S</a:t>
            </a:r>
            <a:r>
              <a:rPr b="1" lang="en-US" sz="2800" spc="-1" strike="noStrike" u="sng">
                <a:solidFill>
                  <a:srgbClr val="990099"/>
                </a:solidFill>
                <a:uFillTx/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ntió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S</a:t>
            </a:r>
            <a:r>
              <a:rPr b="1" lang="en-US" sz="2800" spc="-1" strike="noStrike" u="sng">
                <a:solidFill>
                  <a:srgbClr val="990099"/>
                </a:solidFill>
                <a:uFillTx/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rvie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4T22:52:33Z</dcterms:created>
  <dc:creator>Mark A. Langer</dc:creator>
  <dc:description/>
  <dc:language>en-US</dc:language>
  <cp:lastModifiedBy>Home User</cp:lastModifiedBy>
  <dcterms:modified xsi:type="dcterms:W3CDTF">2007-09-24T03:23:13Z</dcterms:modified>
  <cp:revision>38</cp:revision>
  <dc:subject/>
  <dc:title>The past tense of –ar verbs</dc:title>
</cp:coreProperties>
</file>